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03B5-E184-4E81-934D-FB3791D3F16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C03B-5323-4641-933F-A267C32B1D9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3A09-8427-4876-9A4C-03BDD884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EEA0-8C17-463F-A1F6-A224EB55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D14-8313-4FDF-9ACA-5395BE36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2E28-4A12-4AAB-8C40-A34F26AD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EEC-4F7B-4611-A22E-24B12647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0109-B07E-483F-8E5F-09CADB93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EADE-4D6A-41E4-97D8-070CA491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01E4-C872-4A97-B03B-261BE091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F2B4-ED07-4E6A-A24A-7E8E91EA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BF4B-1036-4C3C-BC42-4EE5D13A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D18-7DB8-474C-BDD6-E7958490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CBA6-4EC0-4260-B019-E657504A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634B-D419-437D-8E90-DBD244787A27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2276640"/>
            <a:ext cx="80024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ugg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ind out something that has happened to each of the members of the Mentor Group (including Mentor Leader) in the last four w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o you know the new people in your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539640" y="90792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Kahootz Cartoon"/>
              </a:rPr>
              <a:t>Mentor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Kahootz Cartoon"/>
              </a:rPr>
              <a:t>What new things have I discover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07552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bout my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bout my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bout a particular topic that interested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Kahootz Cartoon"/>
              </a:rPr>
              <a:t>What am I really 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Kahootz Cartoon"/>
              </a:rPr>
              <a:t>proud 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9152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ow have I challenged myself this semester? This could include Extension tasks, the Maths Competition, Problem solving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ow can I challenge mysel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Kahootz Cartoon"/>
              </a:rPr>
              <a:t>How have I shown Respect in our Learning Cent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iv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ink about how you might show evidence for your clai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Kahootz Cartoon"/>
              </a:rPr>
              <a:t>How have I contributed to Gisborne Secondary Colle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Kahootz Cartoon"/>
              </a:rPr>
              <a:t>Overall Learning Goals for this y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 made these goals because ……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 didn’t achieve these goals because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did I do/am I doing to achieve my go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You should be able to show the goal setting sheets that you have  in your project book or on your net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Kahootz Cartoon"/>
              </a:rPr>
              <a:t>Where have I shown improvement in my learning this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2565360"/>
            <a:ext cx="77868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oose any area in which you have impro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is might mean that you show your Maths test and also the repeat test to show how much you improved. Or maybe a draft of a project and the final copy. Your draft should show evidence of your proof reading and use of spell ch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IDPlans showing your on-demand data and go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Kahootz Cartoon"/>
              </a:rPr>
              <a:t>MID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84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se are important evidence on your netbooks as they are showing your progression and go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You will have both English and Maths results from year 7 and 8 to chart.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Kahootz Cartoon"/>
              </a:rPr>
              <a:t>Quality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You could show a piece of work which you believe demonstrates Quality learning and speak about why you think your work represents Quality learning.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ke sure that you talk about you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Kahootz Cartoon"/>
              </a:rPr>
              <a:t>Thinking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gg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and How have we used Lotus diagrams this y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and How have we used concept maps this y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and How have we used Venn diagrams this y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ave you used any other thinking tools – How and Why did you use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120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ver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were they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gain examples could be flagged in your 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Kahootz Cartoon"/>
              </a:rPr>
              <a:t>Team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flect on your contribution to Team work this semes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evidence do you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en making up a team what are some of the different ways that you have used to form the groups? What are the advantages and disadvantages of work with your frie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Kahootz Cartoon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xplain how you would go about researching a topic on the Intern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ow do you take notes from the websites you fi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ow do you decide if the web sites are accurate and reli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how examples of where you have accurately referenced a web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Kahootz Cartoon"/>
              </a:rPr>
              <a:t>Reflection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types of feedback have you received this semester? eg; verbal, written, mark, rubric; (you might have some examples to sh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ich forms of feedback do you find the most useful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ow have you used feedback from your peers or teachers to improve your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how ex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22:28:29Z</dcterms:created>
  <dc:creator>DE&amp;T User</dc:creator>
  <dc:description/>
  <dc:language>en-US</dc:language>
  <cp:lastModifiedBy>Christine Tate</cp:lastModifiedBy>
  <dcterms:modified xsi:type="dcterms:W3CDTF">2015-03-15T21:01:43Z</dcterms:modified>
  <cp:revision>12</cp:revision>
  <dc:subject/>
  <dc:title>Slide 1</dc:title>
</cp:coreProperties>
</file>